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9F0-9261-43D1-9512-3FC69577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6FC-ED67-4A40-905B-C2BA4246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DB5-39BA-43FE-8C27-FAB9C6C4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C8C-629C-43BC-8747-1B5AC604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F30-85ED-4B9A-8765-5E127507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D15-5407-4C69-A476-515975EE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F51-787A-4784-8112-16727EA0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A40-0017-4C44-A5CF-A0587864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BAF-E173-4FB7-86A1-3800F50C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7C9-307A-4DAE-BCF7-1AA1D2D5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9D0-38FD-4369-9310-B78CCBBB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113C-FD68-4883-9B86-ADEBCF26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4A25-394B-4734-AF0A-09850B854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8c93"/>
                </a:solidFill>
                <a:latin typeface="Arial"/>
              </a:rPr>
              <a:t>Subjuntivo/ Indicativo/ Infinitiv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609480" y="182880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15. _______ (ser) falso que nosotros 16.___________ (tener) un proyec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143000" y="173664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886200" y="24447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enga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80880" y="182880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Yo 17. ________ (mandar) que mis amigos 18._______ (repetir) las pala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884240" y="17035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a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3809880" y="244476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pit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914400" y="182880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s malo que los alumnos 19._______________ (cruzar) la calle s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2362320" y="22860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ruc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685800" y="18288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s importante 20._______________ (salir) inmedia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209680" y="244476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al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219320" y="18288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s cierto que 21.________ (haber) mucha gente aquí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5105520" y="16891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1371600" y="18288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Dudo que Manuel 22.________ (competir) en el torne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1898640" y="24447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mp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371600" y="182880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s triste que 23._______________ (haber) gatos sin ho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009960" y="22860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a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1371600" y="182880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e gusta que Uds. 24.___________ (saber) las respues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2144880" y="24447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e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icardo 1. ___________ (pensar) que Emily   2. _____________ (viajar) a Florida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2743200" y="133524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ien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922480" y="204624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ia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am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3. ____________ (esperar) que Lori 4. _____________ (comprar) las tortilla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2743200" y="133524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sp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322880" y="219564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mp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anuel 5. _____________ (creer) que los alumnos 6. _____________ (estudiar) a vec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743200" y="133524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648320" y="20764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stud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7. ____________ (ser) preciso que ellos 8. _____________ (participar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295280" y="18064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590920" y="2514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artici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Es importante 9. _____________ (ayudar) a los dem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ás.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57800" y="20430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y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Aconsejo que t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Arial"/>
              </a:rPr>
              <a:t>ú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10._______________ (ir) a clase inmediatamente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2778120" y="20430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ay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371600" y="1523880"/>
            <a:ext cx="7010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Yo 11. ____________ (rogar) que t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Arial"/>
              </a:rPr>
              <a:t>ú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12._______________ (hacer) la tarea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743200" y="133524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ue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862520" y="20988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a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457200" y="182880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anuel 13. _________ (negar) que Enrique 14.___________ (mentir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2936880" y="173664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ie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357800" y="24447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ie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1:57:48Z</dcterms:created>
  <dc:creator>jbarber</dc:creator>
  <dc:description/>
  <dc:language>en-US</dc:language>
  <cp:lastModifiedBy>Jessica Kaplan</cp:lastModifiedBy>
  <dcterms:modified xsi:type="dcterms:W3CDTF">2013-03-18T13:35:31Z</dcterms:modified>
  <cp:revision>18</cp:revision>
  <dc:subject/>
  <dc:title>Ricardo 1. ___________ (pensar) que Emily   2. _____________ (viajar) a Florida. </dc:title>
</cp:coreProperties>
</file>